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5372-A9F8-40C3-97DC-B9ACAC83B98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6747-9145-4557-A372-8EF65929F47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n example of a teacher who made made Demand to Understand a classroom mantra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9032-B820-48BB-BCD9-2FCB2DE79AE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e are going to watch a video of a math clas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t is necessarily a context that relates immediately to those that you teach in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at doesn’t matter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goals are to-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roduce to this cool website of math classrooms. Its free to register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arm up our analytical sid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otentially create some shared reference points for different kinds of activitie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e are going to watch for about 7.5 minut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ke notes on these three questions.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983E-75D8-42DA-95C7-954E13274B0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deally all of these activities should in some sense by shaped and guided by the Core Practices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D85E-A672-4105-9059-B808121016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. The best part of teaching- facilitating new growth and identity change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. What are the paths in student thinking that lead to “aha!”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are the contexts and supports needed for th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3. Systematic and rigorous suggest iterative—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27EE-196A-4B15-858B-24CCE467740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xploring the parallels between processes of student learning and faculty learning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Not against direct instruction- presentation have a place, but presenting isn’t teaching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re is a coherent framework about how learning takes place that is guiding the grant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t is described in “How People Learn Math”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ol use means practicing using the tools in ways that are extensions of what you know how to do with them.-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 deeper understanding of math happens from using mathematics to interpreting, conjecture, investigating, testing, refining verify, modeling represen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andling tools in as many meaningful ways as possible allows learners to grow in their abilities and understanding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same holds true for growth in teaching.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C64F-0FDC-44E8-8F9C-75CFD62B029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e are handing out the resource sheets now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82C5-C909-4A39-9E61-82B7B688A23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04A-BE38-42A8-B228-B538A041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5AB-32B1-4403-B71F-72FC4C2B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FFE-6D8F-49B4-80CA-D7ADB1B0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BAA-A30C-457E-A440-279AC44B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75DB-0AEC-468E-A442-346A43E0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2EE-2FC7-447F-A43C-30D46333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E42-AE27-449D-8210-1DE1449B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AAC-949D-4C4D-8E6F-08BDA3C6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3E4-1AE9-46DC-8E45-41C610FA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882-2FD1-4EA1-AA84-6AAE01D8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78F-38F8-4115-843C-E32209ED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335-C012-46C0-A4D5-AC163240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5714-9FFC-4514-AAE1-0DD96BEA6B4C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PM March 2011 Retre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quiry Into Learning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(and maybe teaching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ickey Davis UCB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ollaborative Task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at are the features of a task that make it well suited to group-collaboration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en should students work in pairs v. groups of three or four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at are the ideal ways of engaging with collaborative tasks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at are the barriers to students engaging in these activities in this way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at aspects of task implementation, questioning strategies, and other pedagogy can help overcome these obstacles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Building and Supporting FIG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formal invitations to “thinking partnerships”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haring a teaching dilemm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howing a piece of student work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ciprocal observa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he Quest For Understanding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hifting Responsibilit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cusing on the sphere of influen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nderstandably resisted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an be overcome strategically and collectivel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stained, systemic, rigorous inquiry of local generated evidence will lead to deeper understanding of learning and teaching that can help transform teaching and learning practic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se activities are integral to teaching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Let’s Begi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stands out to you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are students learning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are they learning it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Grant Activiti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reating new cours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organizing courses and topic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djusting placement procedur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xamining data trends and respond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ore practice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changing what happens in the classroom through CATS, FIGS, Reciprocal observa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IG Challeng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do we get people to come to the table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 we when we all get there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is this supposed to relate to all the work we have to do as faculty? On the grant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wer Issues: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w can I be leader when I’m not tenured yet? New to the department? An adjunct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raming FIG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ureka! I can do this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leads to those moment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G’s systematically and rigorously examine this question in a specific topic area using evidence of student thinking.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oward a Unified Theory of  Learning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questions/tasks are engaging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kind of engagement leads to learning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y doesn’t the grant leadership just say what to do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couple of group convers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actice being in an inquiry space with colleagu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 need to develop comprehensive answe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G fu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rames of inquiry that could guide a FI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ck topi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dd evide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20 Minut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ssign rol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xplore the ques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peak succinctly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sten to and build on each othe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me yourself so you get to the bottom ques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alking Math v. Mathematical Tal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en is talking useful in a math class?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en does talking promote learning?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at are the features of a whole-class conversation that can make it mathematically useful for students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at are the roles of a professor in such a conversation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How can a professor scaffold group tasks so student talk is mathematically productive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How do student beliefs about competence affect participation in tasks   requiring mathematical communication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23:59:48Z</dcterms:created>
  <dc:creator>Office 2004 Test Drive User</dc:creator>
  <dc:description/>
  <dc:language>en-US</dc:language>
  <cp:lastModifiedBy>Mickey</cp:lastModifiedBy>
  <dcterms:modified xsi:type="dcterms:W3CDTF">2011-03-03T07:53:58Z</dcterms:modified>
  <cp:revision>62</cp:revision>
  <dc:subject/>
  <dc:title>Action Research</dc:title>
</cp:coreProperties>
</file>